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020-6756-4D83-BFF5-57FF34E1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A8B-9F5D-44CE-9F55-7A33FEB5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CF9-50CE-4586-A19D-2E5DC5F6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168-3610-4E90-B3DF-6B567FCF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BFED-409D-4C17-893E-01264889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F7A5-C98B-4DAB-9AEC-C2434884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E214-C7C2-4BB8-B24C-E86DC380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EE16-423D-4161-A88F-1CB91226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D24C-6D0B-4B4E-A646-F2C95AD3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0478-A6DB-4953-B46B-18BAFA05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8000-97CC-410A-A756-5F9AA1A9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63E-2315-4877-B472-081CFA89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83C6-E5B7-4A84-B1C2-E88CA6B0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305B-CC32-4CC2-8720-625251C2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150C-0B20-42DA-8DC3-474E5F08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A63F-BFDE-4849-829B-AAEC53F5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44E1-8AB2-444F-BCE3-7587DA71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4EA-0BF7-405D-AE64-61D20F9D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65A-A6EC-4AB4-8EC6-43B5C662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668-9AAE-4435-A608-6CCFEA5C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0DD-EFA2-4296-AB45-4DE3B496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0B4-2F90-477C-A01E-A2109507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817-52DA-47CE-9094-8470C612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D6B-65EE-4D08-8B34-D690B859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DCCD-621A-417B-96A4-AF1D4F872677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FEE3-67FE-4050-B2A2-A3AC1E24D848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Metafora dell’esplorazione di Bateson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utor e allievo si costituiscono entrambi come quel viaggiatore, il cui viaggio e la cui scommessa è il percorso formativ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univirtual-logo" descr=""/>
          <p:cNvPicPr/>
          <p:nvPr/>
        </p:nvPicPr>
        <p:blipFill>
          <a:blip r:embed="rId1"/>
          <a:stretch/>
        </p:blipFill>
        <p:spPr>
          <a:xfrm>
            <a:off x="76320" y="6418440"/>
            <a:ext cx="3657600" cy="349200"/>
          </a:xfrm>
          <a:prstGeom prst="rect">
            <a:avLst/>
          </a:prstGeom>
          <a:ln w="0">
            <a:noFill/>
          </a:ln>
        </p:spPr>
      </p:pic>
      <p:pic>
        <p:nvPicPr>
          <p:cNvPr id="101" name="SSIS-logo" descr=""/>
          <p:cNvPicPr/>
          <p:nvPr/>
        </p:nvPicPr>
        <p:blipFill>
          <a:blip r:embed="rId2"/>
          <a:srcRect l="0" t="0" r="23826" b="48244"/>
          <a:stretch/>
        </p:blipFill>
        <p:spPr>
          <a:xfrm>
            <a:off x="7010280" y="5943600"/>
            <a:ext cx="1949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I riferimenti teoric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. Rogers/ T. Gord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. Vygotski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J. Bru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. Festin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.P. Ausub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H. Gard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univirtual-logo" descr=""/>
          <p:cNvPicPr/>
          <p:nvPr/>
        </p:nvPicPr>
        <p:blipFill>
          <a:blip r:embed="rId1"/>
          <a:stretch/>
        </p:blipFill>
        <p:spPr>
          <a:xfrm>
            <a:off x="76320" y="6418440"/>
            <a:ext cx="3657600" cy="349200"/>
          </a:xfrm>
          <a:prstGeom prst="rect">
            <a:avLst/>
          </a:prstGeom>
          <a:ln w="0">
            <a:noFill/>
          </a:ln>
        </p:spPr>
      </p:pic>
      <p:pic>
        <p:nvPicPr>
          <p:cNvPr id="105" name="SSIS-logo" descr=""/>
          <p:cNvPicPr/>
          <p:nvPr/>
        </p:nvPicPr>
        <p:blipFill>
          <a:blip r:embed="rId2"/>
          <a:srcRect l="0" t="0" r="23826" b="48244"/>
          <a:stretch/>
        </p:blipFill>
        <p:spPr>
          <a:xfrm>
            <a:off x="7010280" y="5943600"/>
            <a:ext cx="1949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Teoria del person-centered learning</a:t>
            </a:r>
            <a:br>
              <a:rPr sz="3600"/>
            </a:br>
            <a:r>
              <a:rPr b="0" lang="it-IT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Rogers/Gordon </a:t>
            </a:r>
            <a:r>
              <a:rPr b="1" lang="it-IT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chiedono modalità di approccio «con mediazione sociale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 risorse e l'origine dell'apprendimento sono soprattutto gli alliev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'insegnante è soprattutto un facilitatore e un organizzatore dell'attività di apprendim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univirtual-logo" descr=""/>
          <p:cNvPicPr/>
          <p:nvPr/>
        </p:nvPicPr>
        <p:blipFill>
          <a:blip r:embed="rId1"/>
          <a:stretch/>
        </p:blipFill>
        <p:spPr>
          <a:xfrm>
            <a:off x="76320" y="6418440"/>
            <a:ext cx="3657600" cy="349200"/>
          </a:xfrm>
          <a:prstGeom prst="rect">
            <a:avLst/>
          </a:prstGeom>
          <a:ln w="0">
            <a:noFill/>
          </a:ln>
        </p:spPr>
      </p:pic>
      <p:pic>
        <p:nvPicPr>
          <p:cNvPr id="109" name="SSIS-logo" descr=""/>
          <p:cNvPicPr/>
          <p:nvPr/>
        </p:nvPicPr>
        <p:blipFill>
          <a:blip r:embed="rId2"/>
          <a:srcRect l="0" t="0" r="23826" b="48244"/>
          <a:stretch/>
        </p:blipFill>
        <p:spPr>
          <a:xfrm>
            <a:off x="7010280" y="5943600"/>
            <a:ext cx="1949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Zona di sviluppo potenziale di Vygotskji/Brun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"Distanza fra livello di sviluppo effettivo e livello di sviluppo potenziale dell'allievo ottenibile attraverso attività di problem solving eseguita sotto la guida di un adulto o in collaborazione con compagni più capaci"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univirtual-logo" descr=""/>
          <p:cNvPicPr/>
          <p:nvPr/>
        </p:nvPicPr>
        <p:blipFill>
          <a:blip r:embed="rId1"/>
          <a:stretch/>
        </p:blipFill>
        <p:spPr>
          <a:xfrm>
            <a:off x="76320" y="6418440"/>
            <a:ext cx="3657600" cy="349200"/>
          </a:xfrm>
          <a:prstGeom prst="rect">
            <a:avLst/>
          </a:prstGeom>
          <a:ln w="0">
            <a:noFill/>
          </a:ln>
        </p:spPr>
      </p:pic>
      <p:pic>
        <p:nvPicPr>
          <p:cNvPr id="113" name="SSIS-logo" descr=""/>
          <p:cNvPicPr/>
          <p:nvPr/>
        </p:nvPicPr>
        <p:blipFill>
          <a:blip r:embed="rId2"/>
          <a:srcRect l="0" t="0" r="23826" b="48244"/>
          <a:stretch/>
        </p:blipFill>
        <p:spPr>
          <a:xfrm>
            <a:off x="7010280" y="5943600"/>
            <a:ext cx="1949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Dissonanza cognitiva di Festinger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 contraddizione dialettica negativo/positivo proprio della dissonanza cognitiva, permette la continua evoluzione dell'apprendimento significativo quando si rende lo sforzo cognitivo 'sostenibile' pur con il 'dolore della conoscenza'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univirtual-logo" descr=""/>
          <p:cNvPicPr/>
          <p:nvPr/>
        </p:nvPicPr>
        <p:blipFill>
          <a:blip r:embed="rId1"/>
          <a:stretch/>
        </p:blipFill>
        <p:spPr>
          <a:xfrm>
            <a:off x="76320" y="6418440"/>
            <a:ext cx="3657600" cy="349200"/>
          </a:xfrm>
          <a:prstGeom prst="rect">
            <a:avLst/>
          </a:prstGeom>
          <a:ln w="0">
            <a:noFill/>
          </a:ln>
        </p:spPr>
      </p:pic>
      <p:pic>
        <p:nvPicPr>
          <p:cNvPr id="117" name="SSIS-logo" descr=""/>
          <p:cNvPicPr/>
          <p:nvPr/>
        </p:nvPicPr>
        <p:blipFill>
          <a:blip r:embed="rId2"/>
          <a:srcRect l="0" t="0" r="23826" b="48244"/>
          <a:stretch/>
        </p:blipFill>
        <p:spPr>
          <a:xfrm>
            <a:off x="7010280" y="5943600"/>
            <a:ext cx="1949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Apprendimento significativo per scoperta di Ausubel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asato sui diversi stili cognitivi dei discenti in base a princìpi interpretativi delle modalità apprenditive (come la riduzione e semplificazione, la coerenza interna…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l tutor diventa un esperto di Stili di insegnamento apprendimento e delle relative strategie di scoperta e implementazione!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ardn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univirtual-logo" descr=""/>
          <p:cNvPicPr/>
          <p:nvPr/>
        </p:nvPicPr>
        <p:blipFill>
          <a:blip r:embed="rId1"/>
          <a:stretch/>
        </p:blipFill>
        <p:spPr>
          <a:xfrm>
            <a:off x="76320" y="6418440"/>
            <a:ext cx="3657600" cy="349200"/>
          </a:xfrm>
          <a:prstGeom prst="rect">
            <a:avLst/>
          </a:prstGeom>
          <a:ln w="0">
            <a:noFill/>
          </a:ln>
        </p:spPr>
      </p:pic>
      <p:pic>
        <p:nvPicPr>
          <p:cNvPr id="121" name="SSIS-logo" descr=""/>
          <p:cNvPicPr/>
          <p:nvPr/>
        </p:nvPicPr>
        <p:blipFill>
          <a:blip r:embed="rId2"/>
          <a:srcRect l="0" t="0" r="23826" b="48244"/>
          <a:stretch/>
        </p:blipFill>
        <p:spPr>
          <a:xfrm>
            <a:off x="7010280" y="5943600"/>
            <a:ext cx="1949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La formazione dei “talenti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dine centrale del curriculum è la </a:t>
            </a:r>
            <a:r>
              <a:rPr b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zione dei “talenti”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vvero lo sviluppo del potenziale di ciascuno attraverso l’azione formativa: (Margiotta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univirtual-logo" descr=""/>
          <p:cNvPicPr/>
          <p:nvPr/>
        </p:nvPicPr>
        <p:blipFill>
          <a:blip r:embed="rId1"/>
          <a:stretch/>
        </p:blipFill>
        <p:spPr>
          <a:xfrm>
            <a:off x="76320" y="6418440"/>
            <a:ext cx="3657600" cy="349200"/>
          </a:xfrm>
          <a:prstGeom prst="rect">
            <a:avLst/>
          </a:prstGeom>
          <a:ln w="0">
            <a:noFill/>
          </a:ln>
        </p:spPr>
      </p:pic>
      <p:pic>
        <p:nvPicPr>
          <p:cNvPr id="125" name="SSIS-logo" descr=""/>
          <p:cNvPicPr/>
          <p:nvPr/>
        </p:nvPicPr>
        <p:blipFill>
          <a:blip r:embed="rId2"/>
          <a:srcRect l="0" t="0" r="23826" b="48244"/>
          <a:stretch/>
        </p:blipFill>
        <p:spPr>
          <a:xfrm>
            <a:off x="7010280" y="5943600"/>
            <a:ext cx="1949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0:40:53Z</dcterms:created>
  <dc:creator>ssis</dc:creator>
  <dc:description/>
  <dc:language>en-US</dc:language>
  <cp:lastModifiedBy>Rita Minello</cp:lastModifiedBy>
  <dcterms:modified xsi:type="dcterms:W3CDTF">2003-07-14T22:09:15Z</dcterms:modified>
  <cp:revision>77</cp:revision>
  <dc:subject/>
  <dc:title>TUTOR ONLINE</dc:title>
</cp:coreProperties>
</file>