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504-F5EC-4FFC-8426-4E71A927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DBE-9D53-4B1B-B8E1-D9FEEE8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95E-9613-49BD-BBF7-CBEAF937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285-0C5C-4DC4-B33E-B8784865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153D-D04B-4C3A-8B1E-4D0C2783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F449-C883-468A-92FD-B0E00CB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60FD-558F-4CCA-8454-1C632048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A6DE-B936-4B7D-AB68-D5ECB7A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931D-3BF0-445D-8A78-80E8962D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62B-2FDE-4AFC-96DD-18EF1DE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9DC0-2C65-42D8-995D-79CC50A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DD3-09E0-41CA-BB48-DB6BBE8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416C-6A95-45E0-A9E0-C3956B0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1087-8E19-433A-8768-A213E63A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28E2-5DC2-4CC0-B507-AC49321D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105-A03B-4F19-9CFE-53605D09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F2B2-0FC3-400E-9683-9CD6837A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B75-D557-45A4-9249-34159C5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D93-3B1E-4856-8A0F-BC210CA5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C00-9AF3-4DD4-A7D4-9DE9F2AD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DA3-CB57-48F4-8DC1-C2EDA04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2E0-C306-4E3F-90D4-0103BF7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618-71CC-4E79-8E3C-BF174A9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474-E209-4CD7-A360-1A6621E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1907-483B-43AF-A31A-6AC9DF2E7CC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0DBC-9D60-4071-A70E-1E69634679B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196640"/>
            <a:ext cx="754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Dal metodo all’approccio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4724280"/>
            <a:ext cx="7634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ta Mine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380880"/>
            <a:ext cx="800100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Rinuncia al metod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vvero rinuncia a quella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cezione razionalista dell'attività professionale d'insegnamento che prevede che gli insegnanti imparino determinate teorie, che hanno la loro ragione d'essere nella ricerca accademica, e poi le trasferiscano nella pratica della classe, applicandole alla situazione concreta.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risi del metodo come passe-partout di una didattica efficiente” (Minichiell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68400"/>
            <a:ext cx="8763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h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. Oggi l’insegnante abdica al suo ruolo tradi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diviene un facilitatore del processo comun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agisce come organizzatore dei materiali e delle attività nel rispetto dei vari stili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poiché l’apprendimento è una mèta raggiungibile attraverso la collaborazione e lo sblocco dei filtri affettivi (liberazione delle ansie) attuabile tramite motivazioni profonde e conquista dell’autonomia (abilità di farsi carico del proprio apprendiment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525600"/>
            <a:ext cx="83822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. Assunzione di uno dei paradigmi della complessit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il dialogo tra la teoria pura e l’esperienza pra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Verdana"/>
                <a:ea typeface="Times New Roman"/>
              </a:rPr>
              <a:t>L’insegnante e l’allievo si costituiscono entrambi come quel viaggiatore, il cui viaggio e la cui scommessa è il percorso formativo (metafora dell’esplorazione di Bates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74680"/>
            <a:ext cx="838224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stituzione del concetto di metodo con quella di Approccio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definire la natura dell’</a:t>
            </a:r>
            <a:r>
              <a:rPr b="0" i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pprocci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la metafora di Serres nel paradigma della complessità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la relazione docente/discente come il passaggio a nord-ovest che mette in comunicazione l'Oceano Atlantico e il Pacifico</a:t>
            </a:r>
            <a:r>
              <a:rPr b="0" i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66"/>
                </a:solidFill>
                <a:latin typeface="Verdana"/>
                <a:ea typeface="Times New Roman"/>
              </a:rPr>
              <a:t>Scommessa è il percorso formativo – Le Pari (Pas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98360"/>
            <a:ext cx="838224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al concetto di metodo a quello di approccio interattiv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ll'interno di questo ambiente può produrre apprendimento solo l’interazione intesa come: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visione - Cooperative Learning – Group Investigati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egoziazione – Approccio Gordon – insegnanti/studenti effic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struzione di nuovi significati – AT e Natu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197000"/>
            <a:ext cx="7308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"Rispetto alle altre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noi tutti abbiamo diment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che non è il monologo e l'impiego delle autorevoli compe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degli esperti scientifici a promuovere la vi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ma lo scambio dialogico, lo scambio che avviene nel dialo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nella disputa e nella lotta fra le opinioni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0066"/>
                </a:solidFill>
                <a:latin typeface="Verdana"/>
                <a:ea typeface="Times New Roman"/>
              </a:rPr>
              <a:t>Gad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1:13:09Z</dcterms:created>
  <dc:creator>Andrea Marcelli</dc:creator>
  <dc:description/>
  <dc:language>en-US</dc:language>
  <cp:lastModifiedBy>user</cp:lastModifiedBy>
  <dcterms:modified xsi:type="dcterms:W3CDTF">2006-09-22T08:58:16Z</dcterms:modified>
  <cp:revision>3</cp:revision>
  <dc:subject/>
  <dc:title>Presentazione di PowerPoint</dc:title>
</cp:coreProperties>
</file>