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2295-63C4-4D45-B2AA-695A2834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E857-20EB-4877-A2F3-99BE4CB9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C324-E401-4F08-ABD3-41DDCB24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B627-9A66-4B00-8903-143D384F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13C5-3E68-417F-A325-4066B8DD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929D-2DE6-4887-B64B-1D0DC2E3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41BF-1F01-4875-8ED2-9FCB5F77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3A01-0DB0-41E5-A536-3B1B5734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73E4-04D0-4D97-83AD-C0888AB8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2803-1605-4801-B965-BD968571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58AA-34EE-4C73-A18A-9AB1F6A4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9098-3C6D-496C-8372-2D05D8F4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5350-FFD2-4C4D-AB46-0B91506F2DF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Rita Mine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565000"/>
            <a:ext cx="777240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 Gothic"/>
              </a:rPr>
              <a:t>Apprendimento a mediazione soci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 Gothic"/>
              </a:rPr>
              <a:t>Le premesse psico-pedagog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533520"/>
            <a:ext cx="8686800" cy="46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8000"/>
                </a:solidFill>
                <a:latin typeface="Verdana"/>
                <a:ea typeface="Times New Roman"/>
              </a:rPr>
              <a:t>Teorie motivazional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convergono principalmente sui modelli di ricompense e di obiettivi secondo cui operano gli studenti. Esse identificano tre diverse strutture di valori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200160"/>
            <a:ext cx="868680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1" lang="it-IT" sz="3200" spc="-1" strike="noStrike">
                <a:solidFill>
                  <a:srgbClr val="008000"/>
                </a:solidFill>
                <a:latin typeface="Verdana"/>
                <a:ea typeface="Times New Roman"/>
              </a:rPr>
              <a:t>cooperativa:</a:t>
            </a:r>
            <a:r>
              <a:rPr b="1" lang="it-IT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gli sforzi orientati all'obiettivo da parte di ciascun allievo contribuiscono al conseguimento degli obiettivi anche da parte dei compagni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1" lang="it-IT" sz="3200" spc="-1" strike="noStrike">
                <a:solidFill>
                  <a:srgbClr val="008000"/>
                </a:solidFill>
                <a:latin typeface="Verdana"/>
                <a:ea typeface="Times New Roman"/>
              </a:rPr>
              <a:t>competitiva:</a:t>
            </a:r>
            <a:r>
              <a:rPr b="1" lang="it-IT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ogni sforzo da parte di ciascun allievo tende a ridurre il conseguimento degli obiettivi altrui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1" lang="it-IT" sz="3200" spc="-1" strike="noStrike">
                <a:solidFill>
                  <a:srgbClr val="008000"/>
                </a:solidFill>
                <a:latin typeface="Verdana"/>
                <a:ea typeface="Times New Roman"/>
              </a:rPr>
              <a:t>individualistica:</a:t>
            </a:r>
            <a:r>
              <a:rPr b="1" lang="it-IT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il conseguimento dei propri obiettivi non influisce sul conseguimento degli obiettivi degli altri (Deutsch, 1949).</a:t>
            </a:r>
            <a:r>
              <a:rPr b="1" lang="it-IT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380880"/>
            <a:ext cx="8382240" cy="53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8000"/>
                </a:solidFill>
                <a:latin typeface="Verdana"/>
                <a:ea typeface="Times New Roman"/>
              </a:rPr>
              <a:t>I vari modelli di apprendiment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Verdana"/>
                <a:ea typeface="Arial"/>
              </a:rPr>
              <a:t>COMPETITIVO: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  <a:ea typeface="Arial"/>
              </a:rPr>
              <a:t> "Se tu vinci, io perdo/se io vinco, tu perdi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Verdana"/>
                <a:ea typeface="Arial"/>
              </a:rPr>
              <a:t>INDIVIDUALIZZATO: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  <a:ea typeface="Arial"/>
              </a:rPr>
              <a:t> "Siamo tutti, qui, soli/ognuno lavora per sé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Verdana"/>
                <a:ea typeface="Arial"/>
              </a:rPr>
              <a:t>COOPERATIVO: 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  <a:ea typeface="Arial"/>
              </a:rPr>
              <a:t>"Affondiamo o nuotiamo insieme"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Verdana"/>
                <a:ea typeface="Arial"/>
              </a:rPr>
              <a:t>(Deutsch, 1949; Kagan,1986; Johnson &amp; Johnson, 198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76320"/>
            <a:ext cx="8382240" cy="62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8000"/>
                </a:solidFill>
                <a:latin typeface="Verdana"/>
                <a:ea typeface="Times New Roman"/>
              </a:rPr>
              <a:t>Teorie cogni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teorie motivazionali del CL - accento sul fatto che i valori cooperativi cambiano radicalmente le motivazioni degli studenti al lavoro scolas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teorie cognitive -evolutive ed elaborative- enfatizzano gli effetti positivi prodotti dal fatto stesso di lavorare assie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152280"/>
            <a:ext cx="87631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8000"/>
                </a:solidFill>
                <a:latin typeface="Verdana"/>
                <a:ea typeface="Times New Roman"/>
              </a:rPr>
              <a:t>Assunto fondamentale delle </a:t>
            </a:r>
            <a:r>
              <a:rPr b="1" i="1" lang="it-IT" sz="4400" spc="-1" strike="noStrike">
                <a:solidFill>
                  <a:srgbClr val="008000"/>
                </a:solidFill>
                <a:latin typeface="Verdana"/>
                <a:ea typeface="Times New Roman"/>
              </a:rPr>
              <a:t>teorie cognitive evolutive</a:t>
            </a:r>
            <a:r>
              <a:rPr b="1" lang="it-IT" sz="4400" spc="-1" strike="noStrike">
                <a:solidFill>
                  <a:srgbClr val="008000"/>
                </a:solidFill>
                <a:latin typeface="Verdana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l'interazione fra gli allievi su obiettivi cognitivi aumenta la padronanza dei concetti critici (Vygotsky, 1978; Murray, 1982; Damon, 1984)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307800"/>
            <a:ext cx="8686800" cy="49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interazione con i </a:t>
            </a:r>
            <a:r>
              <a:rPr b="1" i="1" lang="it-IT" sz="3200" spc="-1" strike="noStrike">
                <a:solidFill>
                  <a:srgbClr val="008000"/>
                </a:solidFill>
                <a:latin typeface="Verdana"/>
                <a:ea typeface="Times New Roman"/>
              </a:rPr>
              <a:t>'pari più capaci'</a:t>
            </a:r>
            <a:r>
              <a:rPr b="1" lang="it-IT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lla luce del concetto di </a:t>
            </a:r>
            <a:r>
              <a:rPr b="1" i="1" lang="it-IT" sz="3200" spc="-1" strike="noStrike">
                <a:solidFill>
                  <a:srgbClr val="008000"/>
                </a:solidFill>
                <a:latin typeface="Verdana"/>
                <a:ea typeface="Times New Roman"/>
              </a:rPr>
              <a:t>'zona di sviluppo prossimale'</a:t>
            </a:r>
            <a:r>
              <a:rPr b="1" lang="it-IT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di Vygotsky, definito co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66"/>
                </a:solidFill>
                <a:latin typeface="Verdana"/>
                <a:ea typeface="Times New Roman"/>
              </a:rPr>
              <a:t>"distanza fra livello di sviluppo effettivo e livello di sviluppo potenziale dell'allievo ottenibile attraverso attività di problem solving eseguita sotto la guida di un adulto o in collaborazione con compagni più capaci".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343080"/>
            <a:ext cx="838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Verdana"/>
                <a:ea typeface="Times New Roman"/>
              </a:rPr>
              <a:t>Il contatto con coetanei all'interno di un gruppo di collaborazione consente ai partecipanti di operare reciprocamente all'interno delle proprie zone di sviluppo prossimo, ottenendo nel gruppo comportamenti e risultati più avanzati di quelli conseguibili nelle normali attività individual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304920"/>
            <a:ext cx="83059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8000"/>
                </a:solidFill>
                <a:latin typeface="Verdana"/>
                <a:ea typeface="Times New Roman"/>
              </a:rPr>
              <a:t>Teorie di elaborazione cogni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66"/>
                </a:solidFill>
                <a:latin typeface="Verdana"/>
                <a:ea typeface="Times New Roman"/>
              </a:rPr>
              <a:t>Se l'informazione deve essere ritenuta nella memoria e riferita ad altre informazioni in essa già presenti, il discente deve impegnarsi in una specie di ristrutturazione cognitiva, o elaborazione, del materiale</a:t>
            </a:r>
            <a:r>
              <a:rPr b="1" i="1" lang="it-IT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(Wittrock, 1978).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453960"/>
            <a:ext cx="83822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Verdana"/>
                <a:ea typeface="Times New Roman"/>
              </a:rPr>
              <a:t>Il Cooperative Learning, come le numerose ricerche hanno dimostrato, sembra poter risolvere molti dei grandi problemi dei nostri sistemi scolastici:</a:t>
            </a:r>
            <a:r>
              <a:rPr b="1" lang="en-US" sz="4400" spc="-1" strike="noStrike">
                <a:solidFill>
                  <a:srgbClr val="a50021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204840"/>
            <a:ext cx="87631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- Recupero allievi problematici, poco motivati allo studio e con problemi affettivi, motivazionali, sociali e cognitivi di apprendimen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- Integrazione allievi disadattati, diversi (handicappati, di diversi gruppi etnici…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- Valorizzazione allievi bravi (</a:t>
            </a:r>
            <a:r>
              <a:rPr b="1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gifted students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- Sviluppo competenze sociali, del senso civico, del rispetto dell'altro, della partecipazione, della responsabilità, dell'interdipendenz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- Sviluppo cittadino democratico.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28600"/>
            <a:ext cx="861048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operazione come requisito essenziale di competenza sociale e cognitiva per l'evoluzione della società comples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al reason that schools are built is to provide students with the knowledge, concepts, skills, and understandings needed for survival in our society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</a:t>
            </a:r>
            <a:br>
              <a:rPr sz="3200"/>
            </a:br>
            <a:r>
              <a:rPr b="1" lang="it-IT" sz="3200" spc="-1" strike="noStrike">
                <a:solidFill>
                  <a:srgbClr val="008080"/>
                </a:solidFill>
                <a:latin typeface="Arial"/>
                <a:ea typeface="Arial"/>
              </a:rPr>
              <a:t>La ragione principale per la quale sono nate le scuole è fornire agli studenti le conoscenze, i concetti, le abilità e la comprensione necessaria per sopravvivere nella nostra società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. Slavin, 1990 ,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152280"/>
            <a:ext cx="868680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Verdana"/>
                <a:ea typeface="Times New Roman"/>
              </a:rPr>
              <a:t>ATTEN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Il </a:t>
            </a:r>
            <a:r>
              <a:rPr b="1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Cooperative Learning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 é veramente efficace quando al riconoscimento per i risultati del gruppo si abbina l'importanza assegnata alla responsabilità individuale del singolo allievo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280" y="0"/>
            <a:ext cx="8839440" cy="61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Verdana"/>
                <a:ea typeface="Times New Roman"/>
              </a:rPr>
              <a:t>Componenti tecniche e ideali di questo approccio: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- Interdipendenza positiv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- Definizione ruoli complementar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- Responsabilità individua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- Interazione costruttiv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- Abilità social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- Valutazione individuale e di grupp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228600"/>
            <a:ext cx="8686800" cy="55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Verdana"/>
                <a:ea typeface="Times New Roman"/>
              </a:rPr>
              <a:t>L'interdipendenza positiva è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Una struttura che vincola i membri di un gruppo nel raggiungimento di uno scopo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Non può esistere successo individuale senza successo collet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Il fallimento del singolo è il fallimento del grupp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Niente interdipendenza positiva, niente cooperazi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152280"/>
            <a:ext cx="845820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Verdana"/>
                <a:ea typeface="Times New Roman"/>
              </a:rPr>
              <a:t>L'interazione diretta costruttiva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ortamenti con cui i membri dei gruppo mostrano interesse per il raggiungimento dell'obiettivo: contribuiscono con idee e lavoro, si ascoltano reciprocamente manifestandosi fiducia e non temono di esporre la propria opinione perché sono sicuri che può contribuire a migliorare il risultat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76320"/>
            <a:ext cx="8686800" cy="58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Verdana"/>
                <a:ea typeface="Times New Roman"/>
              </a:rPr>
              <a:t>Valutazione individuale e/o di grup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Nella valutazione di gruppo i membri verificano e discutono i progressi compiuti verso il raggiungimento degli obiettivi e l'efficacia dei loro rapporti di lavoro.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I gruppi devono identificare e descrivere quali azioni dei membri siano positive o negative e decidere quali tipi di comportamento mantenere o modific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152280"/>
            <a:ext cx="838224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collaborazione richiede competenze comunicative e sociali che non sempre gli studenti possiedono, per cui devono essere insegna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50021"/>
                </a:solidFill>
                <a:latin typeface="Verdana"/>
                <a:ea typeface="Times New Roman"/>
              </a:rPr>
              <a:t>Insegnare agli studenti le abilità necessarie nei rapporti interpersonali all'interno del piccolo grupp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52280"/>
            <a:ext cx="838224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Nelle classi il clima di lavoro è spesso competitivo, con alunni che vogliono dimostrare di essere i migliori o, al contrario, scoraggiati nel confronto con i compagn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- Modificare questo stato di cose mediante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pprendimento cooper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- Migliorare il clima emotivo e il rend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320" y="404640"/>
            <a:ext cx="899136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Verdana"/>
                <a:ea typeface="Times New Roman"/>
              </a:rPr>
              <a:t>Cos'è l'apprendimento cooperativo?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Cooperare significa lavorare insieme per raggiungere obiettivi comun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'apprendimento cooperativo è un metodo didattico che utilizza piccoli gruppi in cui gli studenti lavorano insieme per migliorare reciprocamente il loro apprendimen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ciò si distingue sia dall'apprendimento competitivo che da quello individualistico. L'apprendimento cooperativo può essere applicato a ogni compito, ogni materia e ogni curricolo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049400"/>
            <a:ext cx="838224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uno dei metodi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a mediazione sociale”, contrapposto ad altr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a mediazione dell'insegnante”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549360"/>
            <a:ext cx="838224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Verdana"/>
                <a:ea typeface="Times New Roman"/>
              </a:rPr>
              <a:t>Modalità di insegnamento "con mediazione dell'insegnante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questi è la principale fonte della conoscenza e del sapere, stabilisce e valuta che cosa deve essere conosciut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fissa il ritmo dell'apprendiment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uscita la motivazione o la recupera, facilita e individualizza l'apprendimento.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76320"/>
            <a:ext cx="83822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8000"/>
                </a:solidFill>
                <a:latin typeface="Verdana"/>
                <a:ea typeface="Times New Roman"/>
              </a:rPr>
              <a:t>Modalità «con mediazione sociale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Verdana"/>
                <a:ea typeface="Times New Roman"/>
              </a:rPr>
              <a:t>Le risorse e l'origine dell'apprendimento sono soprattutto gli alliev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Verdana"/>
                <a:ea typeface="Times New Roman"/>
              </a:rPr>
              <a:t>L'insegnante è soprattutto un facilitatore e un organizzatore dell'attività di apprendimento.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76320"/>
            <a:ext cx="8686800" cy="58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Verdana"/>
                <a:ea typeface="Times New Roman"/>
              </a:rPr>
              <a:t>Paradigmi teorici di base procedure 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- Teoria dei climi di apprendimento indotti sperimentalmente (Lewin, 1939) secondo cui il metodo “democrative” (</a:t>
            </a:r>
            <a:r>
              <a:rPr b="1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emocratic+directive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) risulta il migliore in termini di acquisizioni affettive e cognitiv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- Teoria del contatto (Allport, 1954) secondo cui si attivano positive relazioni inter-gruppo quando gli studenti a scuola partecipano a interazioni cooperative e egualitari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- Teoria del person-centered learning (Rogers, 1968).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04920"/>
            <a:ext cx="838224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In linea più generale, i principali riferimenti teorici dei metodi di Cooperative Learning, ruotano attorno a tre principali prospettiv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Verdana"/>
                <a:ea typeface="Times New Roman"/>
              </a:rPr>
              <a:t>- motivaziona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Verdana"/>
                <a:ea typeface="Times New Roman"/>
              </a:rPr>
              <a:t>- socia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Verdana"/>
                <a:ea typeface="Times New Roman"/>
              </a:rPr>
              <a:t>- cogn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1:32:43Z</dcterms:created>
  <dc:creator>Andrea Marcelli</dc:creator>
  <dc:description/>
  <dc:language>en-US</dc:language>
  <cp:lastModifiedBy>Rita</cp:lastModifiedBy>
  <dcterms:modified xsi:type="dcterms:W3CDTF">2007-01-28T13:02:36Z</dcterms:modified>
  <cp:revision>8</cp:revision>
  <dc:subject/>
  <dc:title>Presentazione di PowerPoint</dc:title>
</cp:coreProperties>
</file>