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961B-0CC3-45AB-A5E7-62FB8D24F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3BF3-0A91-4701-8926-33E14CBF1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909B-F671-491A-A4FA-FAC8E0D3C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14AE-3CF2-43E0-9F53-0B15A3183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A663D-53F5-45E1-A514-7C39EE784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4CB8F-EC32-49D5-99BE-585837FA3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40F9C-7CF2-4F33-8BF0-1815ED806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D5723-3306-4D3E-B3ED-7DA0E7BF0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E67E8-A416-47A8-99A4-BB8A6E770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8283F-F1F0-46F2-BEEF-D5D8D9120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B81AF-3B1B-45B2-BBA6-3B4A5538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A580-0957-4965-8830-4DEF434A5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2F36F-0648-4052-9668-51C8B0D1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647A5-2CB7-49D7-B286-B591EBF4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9E5ED-875C-41E4-9971-ED4C69216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27437-155C-415E-899A-11C56495D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E7A0C-8A05-47A5-BFE4-7312DA20B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DB5E-ED64-41AF-862A-0880A9F71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A3CD-8126-4BEC-9792-C68D8B001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4DC8-2D98-456D-9654-75B203549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92BA-A99B-4CBA-9AE7-45E87C48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0456-E42B-4556-BCA9-2465C862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214B-AD2D-419F-A2B2-8F5CA01C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973E-5E63-4F9D-851F-A68BDBA4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C51A8-BCF6-4077-B224-EFCCBE188E2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0EC45-E564-49FC-891F-77E767D65A7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siccit&#224;.jpg" TargetMode="External"/><Relationship Id="rId2" Type="http://schemas.openxmlformats.org/officeDocument/2006/relationships/hyperlink" Target="file:///quartieri%20poveri.jpg" TargetMode="External"/><Relationship Id="rId3" Type="http://schemas.openxmlformats.org/officeDocument/2006/relationships/hyperlink" Target="file:///quartieri%20poveri.jpg" TargetMode="External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200" spc="-1" strike="noStrike">
                <a:solidFill>
                  <a:srgbClr val="ffffff"/>
                </a:solidFill>
                <a:latin typeface="Century Gothic"/>
              </a:rPr>
              <a:t>Cosa succede dopo la colonizzazione?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Arial"/>
              </a:rPr>
              <a:t>2^  Parte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Arial"/>
              </a:rPr>
              <a:t>Un aiuto per capire i Paesi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Arial"/>
              </a:rPr>
              <a:t>e la loro stori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Tahoma"/>
              </a:rPr>
              <a:t>E allora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851280" y="1628640"/>
            <a:ext cx="4608360" cy="44132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47840" y="1701720"/>
            <a:ext cx="3116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Africani e Asiati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combatto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contr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gli Europe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516720" y="836640"/>
            <a:ext cx="2448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In Indonesia bruciano le bandiere degli Stati Uniti e dell’Inghilterra e pensano di farsi aiutare dai giappones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6048360" cy="39686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405440" y="357120"/>
            <a:ext cx="313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ffff"/>
                </a:solidFill>
                <a:latin typeface="Comic Sans MS"/>
              </a:rPr>
              <a:t>E ancora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9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Tahoma"/>
              </a:rPr>
              <a:t>Come fanno i Paesi a ribellarsi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’Europa era molto povera dopo la seconda guerra mondiale e i nazisti l’avevano inva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’Inghilterra aveva vinto la guerra ma alla fine l’Unione Sovietica e gli Stati Uniti l’avevano aiutata: per questo era debo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 soldati africani avevano aiutato l’Europa nella guer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elle colonie i giovani asiatici e africani avevano studiato nelle scuole degli europei e avevano imparato nuovi concetti: libertà, uguaglianza, democrazia, nazi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9" dur="3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4" dur="3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9" dur="3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4" dur="3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Comic Sans MS"/>
              </a:rPr>
              <a:t>Per questo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Tanti giovani dell’Africa e dell’Asia studiano e diventano avvocati, medici, insegnant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Questi giovani pensano che il loro Paese può migliorare, avere salute, essere libero e non ha bisogno degli stranieri (europei) per vive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Comic Sans MS"/>
              </a:rPr>
              <a:t>Due esempi importanti per tutto il mond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ffffff"/>
                </a:solidFill>
                <a:latin typeface="Arial"/>
              </a:rPr>
              <a:t>Nel 1941 gli Stati Uniti e la Gran Bretagna scrivono la CARTA ATLANTICA: un documento che dice che tutti i popoli del mondo devono scegliere il proprio Governo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ffffff"/>
                </a:solidFill>
                <a:latin typeface="Arial"/>
              </a:rPr>
              <a:t>L’Unione Sovietica dice che i popoli poveri devono essere liberi (come dicono Marx e Lenin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3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3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3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Comic Sans MS"/>
              </a:rPr>
              <a:t>Però gli Stati Uniti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ffffff"/>
                </a:solidFill>
                <a:latin typeface="Arial"/>
              </a:rPr>
              <a:t>Dopo la seconda Guerra Mondiale non vanno d’accordo con l’Unione Sovietica (questo distacco si chiama guerra fredda) e allora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ffffff"/>
                </a:solidFill>
                <a:latin typeface="Arial"/>
              </a:rPr>
              <a:t>Non aiutano a liberarsi quei popoli che seguono le idee dell’Unione Sovietica (il marxismo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Comic Sans MS"/>
              </a:rPr>
              <a:t>La decolonizzazione: 3 fas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85690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Comic Sans MS"/>
              </a:rPr>
              <a:t>Le 3 fasi della decolonizzazion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ffffff"/>
                </a:solidFill>
                <a:latin typeface="Arial"/>
              </a:rPr>
              <a:t>1945 – 1956: Asia e maggior parte del mondo arabo (Marocco, Egitto, Arabia Saudita, …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ffffff"/>
                </a:solidFill>
                <a:latin typeface="Arial"/>
              </a:rPr>
              <a:t>1957 – 1965: Africa Nera e Algeria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ffffff"/>
                </a:solidFill>
                <a:latin typeface="Arial"/>
              </a:rPr>
              <a:t>1966 – 1990: America Centrale e Africa meridionale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4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4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9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Comic Sans MS"/>
              </a:rPr>
              <a:t>Cosa fa l’Inghilterra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ffffff"/>
                </a:solidFill>
                <a:latin typeface="Arial"/>
              </a:rPr>
              <a:t>Dopo il 1945 concede piano piano l’indipendenza alle sue colonie, e rimane in buoni rapporti (Commonwealt = alleanza economica, militare e culturale, per il “benessere comune”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Comic Sans MS"/>
              </a:rPr>
              <a:t>Cosa fanno Francia, Portogallo e minoranze bianch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ffffff"/>
                </a:solidFill>
                <a:latin typeface="Arial"/>
              </a:rPr>
              <a:t>Questi Paesi in SudAfrica consideravano i neri una razza inferiore (apartheid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ffffff"/>
                </a:solidFill>
                <a:latin typeface="Arial"/>
              </a:rPr>
              <a:t>Questi Paesi non sono d’accordo con la libertà delle colonie e uccidono le persone che si ribellano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he cosa succed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Cosa fanno gli inglesi in Africa dopo  che hanno conquistato la Nigeria, il Kenya, il Sudafrica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Cosa succede nei Paesi conquistati dalla Francia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Cosa succede in America del su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5950080" cy="60483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516720" y="1773360"/>
            <a:ext cx="201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La decolonizza-zione in As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Comic Sans MS"/>
              </a:rPr>
              <a:t>Cosa succede in India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859280" y="1628640"/>
            <a:ext cx="2413080" cy="4464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403280" y="1628640"/>
            <a:ext cx="26622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Comic Sans MS"/>
              </a:rPr>
              <a:t>In Indi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L’India era una colonia ingle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Subito dopo la Prima Guerra Mondiale (1918) il Partito del Congresso indiano aveva un grande capo: Gandh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Gandhi era un avvocato, che sceglie di vivere come gli indiani per liberarli dagli ingles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Gandhi propone la NON-VIOLENZA ATT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Comic Sans MS"/>
              </a:rPr>
              <a:t>Con Gandhi</a:t>
            </a:r>
            <a:r>
              <a:rPr b="0" lang="it-IT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ffffff"/>
                </a:solidFill>
                <a:latin typeface="Arial"/>
              </a:rPr>
              <a:t>Gli indiani rifiutano di vestirsi come gli inglesi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ffffff"/>
                </a:solidFill>
                <a:latin typeface="Arial"/>
              </a:rPr>
              <a:t>Non vanno nelle scuole inglesi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ffffff"/>
                </a:solidFill>
                <a:latin typeface="Arial"/>
              </a:rPr>
              <a:t>Bloccano i servizi (treni, autobus, …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ffffff"/>
                </a:solidFill>
                <a:latin typeface="Arial"/>
              </a:rPr>
              <a:t>Fanno la “marcia del sale”: camminano per 140 km fino al mare, per raccogliere il sale gratis perché l’Inghilterra aveva messo una tassa sul sal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Comic Sans MS"/>
              </a:rPr>
              <a:t>Nel 1946 l’Indi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Inizia l’indipendenza dall’Inghilterra, 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Indiani musulmani e indiani induisti non vogliono vivere insie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Allora gli indiani si dividono in due popoli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induisti e musulman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Gli induisti restano in India, i musulmani vanno a vivere in Pakist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36" dur="3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41" dur="3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46" dur="3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51" dur="3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56" dur="3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280" y="4759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Comic Sans MS"/>
              </a:rPr>
              <a:t>In India gli ingles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6480000" cy="41986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7216920" y="2085840"/>
            <a:ext cx="145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Hanno portato i treni e così questo grande Paese ha iniziato a comunicare e viaggi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Comic Sans MS"/>
              </a:rPr>
              <a:t>L’India negli ultimi ann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ffffff"/>
                </a:solidFill>
                <a:latin typeface="Arial"/>
              </a:rPr>
              <a:t>Dal 1947 al 1964 Nehru stabilisce l’uguaglianza dei cittadini e valorizza le donn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ffffff"/>
                </a:solidFill>
                <a:latin typeface="Arial"/>
              </a:rPr>
              <a:t>Dopo di lui i suoi figli Indira Gandhi e Rajìv Gandhi continuano ad aiutare lo sviluppo dell’India ma vengono uccisi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ffffff"/>
                </a:solidFill>
                <a:latin typeface="Arial"/>
              </a:rPr>
              <a:t>Oggi l’India è una delle 10 nazioni più industrializzate, e ha 1 miliardo di abitanti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971640" y="42876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Comic Sans MS"/>
              </a:rPr>
              <a:t>Oggi l’Ind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148360" y="1700280"/>
            <a:ext cx="338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Comic Sans MS"/>
              </a:rPr>
              <a:t>Le cose nuove e le cose tradizionali si mescolano insie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32796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5127480" cy="58053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5848200" y="789120"/>
            <a:ext cx="261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La decolonizzazione in Af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848200" y="2013120"/>
            <a:ext cx="2684520" cy="45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In rosso: la data dell’indipenden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Paesi colorati in verde = indipendenti prima del 19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Paesi colorati in rosso = indipendenti dal 1918 al 194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In verde= indipendenti dal 1949 al 19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In arancione = indipendenti dopo il 19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Tahoma"/>
              </a:rPr>
              <a:t>L’indipendenza dei Paesi africani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ffffff"/>
                </a:solidFill>
                <a:latin typeface="Arial"/>
              </a:rPr>
              <a:t>Diventano indipendenti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ffffff"/>
                </a:solidFill>
                <a:latin typeface="Arial"/>
              </a:rPr>
              <a:t>Il Marocco nel 1956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ffffff"/>
                </a:solidFill>
                <a:latin typeface="Arial"/>
              </a:rPr>
              <a:t>La Costa d’Avorio nel 1960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ffffff"/>
                </a:solidFill>
                <a:latin typeface="Arial"/>
              </a:rPr>
              <a:t>La Nigeria nel 1960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ffffff"/>
                </a:solidFill>
                <a:latin typeface="Arial"/>
              </a:rPr>
              <a:t>Il Burkina Faso nel 1960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Comic Sans MS"/>
              </a:rPr>
              <a:t>Nel 194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ffffff"/>
                </a:solidFill>
                <a:latin typeface="Arial"/>
              </a:rPr>
              <a:t>Dopo la Seconda Guerra Mondiale la carta geografica del mondo cambia moltissimo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ffffff"/>
                </a:solidFill>
                <a:latin typeface="Arial"/>
              </a:rPr>
              <a:t>Le colonie di tutto il mondo si ribellano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ffffff"/>
                </a:solidFill>
                <a:latin typeface="Arial"/>
              </a:rPr>
              <a:t>Inizia un grande cambiamento che si chiama DECOLONIZZAZION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Tahoma"/>
              </a:rPr>
              <a:t>Per diventare indipendent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ffffff"/>
                </a:solidFill>
                <a:latin typeface="Arial"/>
              </a:rPr>
              <a:t>Nel 1960 tanti Paesi in Africa diventano indipendenti in modo pacifico (17 stati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ffffff"/>
                </a:solidFill>
                <a:latin typeface="Arial"/>
              </a:rPr>
              <a:t>Alcuni Paesi (come il Kenya) diventano indipendenti con guerre durissim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ffffff"/>
                </a:solidFill>
                <a:latin typeface="Arial"/>
              </a:rPr>
              <a:t>In Congo iniziano una serie di GUERRE CIVILI tra etnie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La 3 fase di decolonizzazione in Afric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’ molto violen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iguarda i Paesi colonizzati dal Portogallo e alcuni Stati dell’Africa del Sud dove c’era l’Aparthe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’Apartheid finisce nel 1992: Nelson Mandela va in prigione 20 anni e poi riceve il Premio Nobel per la 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olti Paesi vivono male a causa di: dittature, siccità, guerre civil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7" dur="500" autoRev="1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03)"/>
                                      </p:to>
                                    </p:set>
                                    <p:set>
                                      <p:cBhvr>
                                        <p:cTn id="518" dur="500" autoRev="1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03)"/>
                                      </p:to>
                                    </p:set>
                                    <p:set>
                                      <p:cBhvr>
                                        <p:cTn id="519" dur="500" autoRev="1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3" dur="500" autoRev="1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03)"/>
                                      </p:to>
                                    </p:set>
                                    <p:set>
                                      <p:cBhvr>
                                        <p:cTn id="524" dur="500" autoRev="1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03)"/>
                                      </p:to>
                                    </p:set>
                                    <p:set>
                                      <p:cBhvr>
                                        <p:cTn id="525" dur="500" autoRev="1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9" dur="500" autoRev="1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03)"/>
                                      </p:to>
                                    </p:set>
                                    <p:set>
                                      <p:cBhvr>
                                        <p:cTn id="530" dur="500" autoRev="1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03)"/>
                                      </p:to>
                                    </p:set>
                                    <p:set>
                                      <p:cBhvr>
                                        <p:cTn id="531" dur="500" autoRev="1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5" dur="500" autoRev="1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03)"/>
                                      </p:to>
                                    </p:set>
                                    <p:set>
                                      <p:cBhvr>
                                        <p:cTn id="536" dur="500" autoRev="1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03)"/>
                                      </p:to>
                                    </p:set>
                                    <p:set>
                                      <p:cBhvr>
                                        <p:cTn id="537" dur="500" autoRev="1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7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2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7" dur="2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2" dur="2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72000" y="1628640"/>
            <a:ext cx="3192480" cy="42483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11280" y="549360"/>
            <a:ext cx="2773440" cy="13158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611280" y="2276640"/>
            <a:ext cx="3176640" cy="13348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592200" y="3621240"/>
            <a:ext cx="3692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Scritte per indicare i bagn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riservati ai bianch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438160" y="717480"/>
            <a:ext cx="250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Nelson Mande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Comic Sans MS"/>
              </a:rPr>
              <a:t>Altri problem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it-IT" sz="3100" spc="-1" strike="noStrike" u="sng">
                <a:solidFill>
                  <a:srgbClr val="999900"/>
                </a:solidFill>
                <a:uFillTx/>
                <a:latin typeface="Arial"/>
                <a:hlinkClick r:id="rId1"/>
              </a:rPr>
              <a:t>siccità</a:t>
            </a:r>
            <a:r>
              <a:rPr b="0" lang="it-IT" sz="3100" spc="-1" strike="noStrike">
                <a:solidFill>
                  <a:srgbClr val="ffffff"/>
                </a:solidFill>
                <a:latin typeface="Arial"/>
              </a:rPr>
              <a:t>, cioè non piove e la terra è secca (questo succede perché gli Europei hanno tagliato intere foreste per vendere il legno degli alberi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ffffff"/>
                </a:solidFill>
                <a:latin typeface="Arial"/>
              </a:rPr>
              <a:t>Sorgono </a:t>
            </a:r>
            <a:r>
              <a:rPr b="0" lang="it-IT" sz="3100" spc="-1" strike="noStrike" u="sng">
                <a:solidFill>
                  <a:srgbClr val="999900"/>
                </a:solidFill>
                <a:uFillTx/>
                <a:latin typeface="Arial"/>
                <a:hlinkClick r:id="rId2"/>
              </a:rPr>
              <a:t>quartieri </a:t>
            </a:r>
            <a:r>
              <a:rPr b="0" lang="it-IT" sz="3100" spc="-1" strike="noStrike" u="sng">
                <a:solidFill>
                  <a:srgbClr val="999900"/>
                </a:solidFill>
                <a:uFillTx/>
                <a:latin typeface="Arial"/>
                <a:hlinkClick r:id="rId3"/>
              </a:rPr>
              <a:t>molto pieni di gente</a:t>
            </a:r>
            <a:r>
              <a:rPr b="0" lang="it-IT" sz="3100" spc="-1" strike="noStrike">
                <a:solidFill>
                  <a:srgbClr val="ffffff"/>
                </a:solidFill>
                <a:latin typeface="Arial"/>
              </a:rPr>
              <a:t>, dove vanno a vivere gli africani più poveri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Tahoma"/>
              </a:rPr>
              <a:t>verific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ffffff"/>
                </a:solidFill>
                <a:latin typeface="Arial"/>
              </a:rPr>
              <a:t>Completa il testo “La decolonizzazione”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ffffff"/>
                </a:solidFill>
                <a:latin typeface="Arial"/>
              </a:rPr>
              <a:t>Osserva la cartina dell’Africa: quale Paese diventa indipendente per primo? Quale per ultimo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ffffff"/>
                </a:solidFill>
                <a:latin typeface="Arial"/>
              </a:rPr>
              <a:t>Abbina le parole al significato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Comic Sans MS"/>
              </a:rPr>
              <a:t>PERCHE’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ffffff"/>
                </a:solidFill>
                <a:latin typeface="Arial"/>
              </a:rPr>
              <a:t>Nel 1945 le colonie si ribellano: combattono e uccidono tanti coloni (europei) per diventare indipendenti, cioè liberi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500" autoRev="1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03)"/>
                                      </p:to>
                                    </p:set>
                                    <p:set>
                                      <p:cBhvr>
                                        <p:cTn id="79" dur="500" autoRev="1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03)"/>
                                      </p:to>
                                    </p:set>
                                    <p:set>
                                      <p:cBhvr>
                                        <p:cTn id="80" dur="500" autoRev="1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Comic Sans MS"/>
              </a:rPr>
              <a:t>Ecco i Paesi del mondo che diventano indipendent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7921800" cy="42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8209080" cy="40384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29040" y="620640"/>
            <a:ext cx="827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Comic Sans MS"/>
              </a:rPr>
              <a:t>Dopo la seconda guerra mondia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Comic Sans MS"/>
              </a:rPr>
              <a:t>Cosa succed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ffffff"/>
                </a:solidFill>
                <a:latin typeface="Arial"/>
              </a:rPr>
              <a:t>Tutti i Paesi governati da Europei si ribellano, combattono con le armi, e diventano indipendenti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ffffff"/>
                </a:solidFill>
                <a:latin typeface="Arial"/>
              </a:rPr>
              <a:t>Perché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Comic Sans MS"/>
              </a:rPr>
              <a:t>Perchè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ffff"/>
                </a:solidFill>
                <a:latin typeface="Arial"/>
              </a:rPr>
              <a:t>I popoli dell’Africa, dell’Asia, dell’America non vogliono dipendere economicamente dall’Europa, cioè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ffff"/>
                </a:solidFill>
                <a:latin typeface="Arial"/>
              </a:rPr>
              <a:t>Non vogliono che l’Europa decida cosa devono coltivare (non potevano più costruire le cose che avevano bisogno per la vita di tutti i giorni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ffff"/>
                </a:solidFill>
                <a:latin typeface="Arial"/>
              </a:rPr>
              <a:t>Non vogliono lavorare nelle piantagioni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ffff"/>
                </a:solidFill>
                <a:latin typeface="Arial"/>
              </a:rPr>
              <a:t>Gli Europei pagano pochissimo i lavoratori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Comic Sans MS"/>
              </a:rPr>
              <a:t>E poi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ffffff"/>
                </a:solidFill>
                <a:latin typeface="Arial"/>
              </a:rPr>
              <a:t>Non vogliono cambiare cultura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ffffff"/>
                </a:solidFill>
                <a:latin typeface="Arial"/>
              </a:rPr>
              <a:t>Non vogliono cambiare religione (sono musulmani, sono induisti, …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7" dur="2000" fill="hold"/>
                                        <p:tgtEl>
                                          <p:spTgt spid="1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3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3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16:15:07Z</dcterms:created>
  <dc:creator>ANNA FRANK</dc:creator>
  <dc:description/>
  <dc:language>en-US</dc:language>
  <cp:lastModifiedBy>Customer</cp:lastModifiedBy>
  <dcterms:modified xsi:type="dcterms:W3CDTF">2005-05-26T23:14:13Z</dcterms:modified>
  <cp:revision>26</cp:revision>
  <dc:subject/>
  <dc:title>Il sistema sola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